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.gif" ContentType="image/gif"/>
  <Override PartName="/ppt/media/image12.wmf" ContentType="image/x-wmf"/>
  <Override PartName="/ppt/media/image4.png" ContentType="image/png"/>
  <Override PartName="/ppt/media/image1.gif" ContentType="image/gif"/>
  <Override PartName="/ppt/media/image11.jpeg" ContentType="image/jpeg"/>
  <Override PartName="/ppt/media/image20.gif" ContentType="image/gif"/>
  <Override PartName="/ppt/media/image8.gif" ContentType="image/gif"/>
  <Override PartName="/ppt/media/image18.jpeg" ContentType="image/jpeg"/>
  <Override PartName="/ppt/media/image19.gif" ContentType="image/gif"/>
  <Override PartName="/ppt/media/image16.gif" ContentType="image/gif"/>
  <Override PartName="/ppt/media/image15.wmf" ContentType="image/x-wmf"/>
  <Override PartName="/ppt/media/image14.wmf" ContentType="image/x-wmf"/>
  <Override PartName="/ppt/media/image9.wmf" ContentType="image/x-wmf"/>
  <Override PartName="/ppt/media/image7.gif" ContentType="image/gif"/>
  <Override PartName="/ppt/media/image5.jpeg" ContentType="image/jpeg"/>
  <Override PartName="/ppt/media/image10.wmf" ContentType="image/x-wmf"/>
  <Override PartName="/ppt/media/image3.wmf" ContentType="image/x-wm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0C4-6551-4B36-AAF1-52784D75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3A5-D5C6-481B-8040-25C2B8F4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83D-EEB2-4ADE-88FA-83087B42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295-FFEB-4AA5-AFBC-F0D57D3F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331-9849-41C8-B614-3292BD89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0FB-EC5D-454A-91A0-47EE35E6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87B-EE01-4B06-A854-1BFAAC61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86B-F45D-4D45-80B2-7F560E40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A48-4F96-49EF-97E9-44225F5F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AEE-33C7-49F1-AA8D-4927FE80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F17-27A0-426C-B1A2-D6D6F98C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45B-6763-4490-AFEE-7BE1D1CF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F9D3-6B65-47D6-827A-FA30462B8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Movies/Chapter%2009A.mpg" TargetMode="External"/><Relationship Id="rId2" Type="http://schemas.openxmlformats.org/officeDocument/2006/relationships/hyperlink" Target="file:///../Movies/Chapter%2009B.mpg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l the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like to run, bike, or swim? These all are good ways to exercise. When you exercise, your body uses oxygen to get energy from glucose, a six-carbon su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733920"/>
            <a:ext cx="830592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your body feel at the start of exercise, such as a long, slow run? How do you feel 1 minute into the run; 10 minutes into the ru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you think is happening in your cells to cause the changes in how you fe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k about running as fast as you can for 100 meters. Could you keep up this pace for a much longer distance? Explain your ans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1600200" cy="14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766880" cy="1212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1231920" cy="17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ATP molecules must be added to get the reaction sta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nsidered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ATP molecules are produced (4 – 2 = net gain of 2 AT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NADH molecules are also cre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99"/>
                </a:solidFill>
                <a:uFillTx/>
                <a:latin typeface="Arial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carrier =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D+ (nicotinamide adenine dinucleot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high energy electr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D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s electrons to other parts of respi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ycolysis ne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 ATP, 2 NADH, and 2 pyruvic ac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680" y="2254320"/>
            <a:ext cx="7867440" cy="2340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1040" y="3535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46640" y="459756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electron transport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3535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yruv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ycolysi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tages vs. 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3200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Occur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an produce 1000s of ATP in a few milli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Does not require 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Can occur w/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920" y="1752480"/>
            <a:ext cx="4038480" cy="32004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 gain of only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AD+ become filled with electron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’t make more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5105520"/>
            <a:ext cx="121608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1631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erobic Respiration = Fer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after glycolysis only if no oxygen is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DH from glycolysis used, turned back into NAD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back to glyco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glycolysis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s many ATP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because it recycles the NAD+ molecules so that the cell can continue to mak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066680"/>
            <a:ext cx="1828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= “without” aerobic = “ai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Alcoholic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sence of oxygen, pyruvic acid is broken down to produce alcohol and carbon di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yeasts and a few other mico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NAD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alcohol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alcoholic beverages and to cause bread dough to 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2240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4572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cells, the pyruvic acid that accumulates due to glycolysis is converted to lactic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NAD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lactic acid +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muscles during heavy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tic acid buildup in muscles causes painful, burning sensation = why muscles feel s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es also produce lac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ake cheese, yogurt, buttermilk, sour cream, pickles, sauerkraut, and kim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952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8760" y="2109960"/>
            <a:ext cx="8286480" cy="263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3200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32688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7040" y="3124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837720"/>
            <a:ext cx="6419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ion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erobic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cellular respiration?  What is the equation for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3 stages of cellular respiration in or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is glycolysis and where does it take place in a cell?  What are the products of glyco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are the advantages and disadvantages of glyco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is anaerobic respiration and what is its purp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ompare and contrast alcoholic fermentation with lactic acid fer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866520" cy="866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79200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hapter 9-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Energy &amp;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ourc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alo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energy needed to raise 1g of water by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ori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kcal, or 1000 cal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breakdown food slowly &amp; gra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can’t use food energy direct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vert to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at once, too explosive and most energy lost a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releases energy of food to mak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2971800"/>
            <a:ext cx="1752840" cy="17524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process that releases energy by breaking down glucose and other food molecule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 the presenc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in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, Krebs cycle, Electron Transport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762120"/>
            <a:ext cx="51055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228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8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8772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9728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72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676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676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2640" y="18129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640" y="1828800"/>
            <a:ext cx="7358040" cy="288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2438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0481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yco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2971800"/>
            <a:ext cx="76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ebs cycl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971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4495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rmentation (without oxy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4197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cohol or lact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685800"/>
            <a:ext cx="510552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9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838080" y="762120"/>
            <a:ext cx="8305560" cy="5486040"/>
            <a:chOff x="838080" y="762120"/>
            <a:chExt cx="8305560" cy="548604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514880" y="762120"/>
              <a:ext cx="7225560" cy="548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"/>
            <p:cNvGrpSpPr/>
            <p:nvPr/>
          </p:nvGrpSpPr>
          <p:grpSpPr>
            <a:xfrm>
              <a:off x="838080" y="2508120"/>
              <a:ext cx="6400080" cy="3351600"/>
              <a:chOff x="838080" y="2508120"/>
              <a:chExt cx="6400080" cy="3351600"/>
            </a:xfrm>
          </p:grpSpPr>
          <p:sp>
            <p:nvSpPr>
              <p:cNvPr id="86" name=""/>
              <p:cNvSpPr/>
              <p:nvPr/>
            </p:nvSpPr>
            <p:spPr>
              <a:xfrm>
                <a:off x="838080" y="3743280"/>
                <a:ext cx="15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98600" y="4028400"/>
                <a:ext cx="866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lycolys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15920" y="5552640"/>
                <a:ext cx="159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ytoplas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044880" y="3140280"/>
                <a:ext cx="1078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yruvic ac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48280" y="2508120"/>
                <a:ext cx="2809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ctrons carried in NAD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3840" y="3890160"/>
                <a:ext cx="869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rebs Cyc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48480" y="3023280"/>
                <a:ext cx="1420200" cy="66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ctrons carried in NADH and FAD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995440" y="3810240"/>
                <a:ext cx="124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lectron Transport Chai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00240" y="5213520"/>
                <a:ext cx="17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itochondr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334200" y="2009880"/>
              <a:ext cx="280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920" y="228600"/>
            <a:ext cx="670536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: 3 S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1. Glycolysis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ytopla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Krebs Cycle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itoch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ron Transport Chain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itoch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Net vs. G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product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Made $20.00 babys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product made minus amount of produc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Made $15.00 babys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.00 for gas to get to babysitting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.00 babysitting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.00 - $5.00 = $15.00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98440"/>
            <a:ext cx="1219320" cy="971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91480" y="363600"/>
            <a:ext cx="876240" cy="121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0" y="4191120"/>
            <a:ext cx="1317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cess in which one molecule of glucose is broken in half, producing two molecules of pyruvic acid, a 3-carbon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carbon molecule (glucose) to two 3-carbon molecules (pyruv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the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quire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1600200" cy="1303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640560" y="228600"/>
            <a:ext cx="9954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3:26:29Z</dcterms:created>
  <dc:creator>bpalme</dc:creator>
  <dc:description/>
  <dc:language>en-US</dc:language>
  <cp:lastModifiedBy>Theresa DeLaurentis</cp:lastModifiedBy>
  <dcterms:modified xsi:type="dcterms:W3CDTF">2008-02-25T23:55:39Z</dcterms:modified>
  <cp:revision>13</cp:revision>
  <dc:subject/>
  <dc:title>Chapter 9-1</dc:title>
</cp:coreProperties>
</file>